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A0DC-7EC9-4BF4-B656-633027E6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80F-F0A7-4237-83A2-CEE7FAA7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5A00-DE3D-425A-A03B-8893FA31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E397-D86E-4993-A609-73EF6BC8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440B-C8DC-475D-BB0D-71A0537A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A71-E762-45D0-928B-2A90C63E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446-33F2-41CA-977C-2DA1473A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2247-286D-456E-A5D8-030F2B0D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2B8D-9144-45A7-B2B0-B7C9415F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7ED4-6D5E-4311-9A72-D6D5D987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B8DD-A767-4C5D-B9F7-52253991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A404-F821-4556-9337-D3BF4379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BD9B-23C0-47B5-B69A-40D27BCD0F77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串行总线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应用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同步串行总线接口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ational Semiconduct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提出的串行同步双工通讯接口。由于其采用三根信号线，所以常称为三线制同步串行总线接口。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同步串行总线接口最早应用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ational Semiconduct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HP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微控制器上，后来被广泛应用到其他微控制器、存储器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等领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占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少，使用简单方便，可以提高系统的可靠性。本章主要介绍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，以及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的使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4.3.3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读写子函数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操作需要严格遵守总线协议。这里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用到的操作指令封装为子函数，方便调用。这些子函数不仅适用于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同样适用于其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接口的器件。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主程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通过调用前面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读写子函数来实现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操作。其中，在程序中指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.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.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.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.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。主函数中首先初始化串行口为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波特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800bit/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接着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语句来扫描串口输入，根据输入数据来调用函数执行不同的功能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了程序设计的方便，这里规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指令格式为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0001××A8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其中，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起始位，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×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指令的操作码，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8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地址码。这样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指令可以表示为如下所示的几种形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3.5  Microwar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总线仿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提供了很好的信号仿真功能，下面就利用其进行程序的仿真分析。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828800" y="2840040"/>
            <a:ext cx="606744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4 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解了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，并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操作指令及其操作时序。本章最后通过一个具体的实例，介绍了如何使用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来在软件上仿真模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。其中给出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读写的子函数以及一个完整的实例。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减少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的使用，在实际电路设计中具有广泛的应用，读者应该熟练掌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三线制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总线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同步串行总线接口是一种串行同步双工通讯接口，由美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ational Semiconduct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最早提出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信号线进行通讯，分别介绍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时钟信号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数据输入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数据输出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362320" y="4267080"/>
            <a:ext cx="45720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2  Microwar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总线接口的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EEPROM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由于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的优势，目前多家公司推出了各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的产品。其中，使用最多的便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34.2.1  Microware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串行总线接口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一种可用电气方法在线擦除和写入的存储器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既有普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可读可写的特性，又具有非易失性存储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掉电后仍然能保持所存储数据的优点。许多大的半导体公司都生产可支持三线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串行总线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例如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ational Semiconducto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推出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M93C06/46/56/6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产品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chi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推出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93C06/46/56/6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93LC46/56/6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93AA06/46/5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以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93C46/56/57/6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产品。这些三线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串行总线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具有如下特点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一般采用单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+5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电源供电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具有较低的功耗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具有三态输出，并可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T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电平兼容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擦除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写入时间不超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擦除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写入周期寿命一般都可达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万次以上，有的产品已可达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万次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片内写入的数据保存寿命可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年以上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4.2.2  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93C46/56/57/6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串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包含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指令，这些指令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串行总线兼容。其中，对于不同的型号，其具体的指令所代表的含义略有区别。下面分别进行介绍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93C4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具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K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比特的存储空间，可以按照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28×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4×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使用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93C4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所支持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串行总线指令及其说明，如表所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76964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4.2.3  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指令时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前面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46/56/57/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支持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指令。下面分别介绍各个指令执行的时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A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WE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RAS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RIT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R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R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WD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4.3  5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系列单片机读写三线制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实例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基本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，没有集成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。当其与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连接时，只能够采用软件模拟的方式来实现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机的操作。这里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例，介绍如何在软件上实现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的数据操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读写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系统电路图，如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4.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09680" y="2819520"/>
            <a:ext cx="470088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首先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建立项目，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0" y="2590920"/>
            <a:ext cx="4962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10:04Z</dcterms:created>
  <dc:creator>cheng</dc:creator>
  <dc:description/>
  <dc:language>en-US</dc:language>
  <cp:lastModifiedBy>cheng</cp:lastModifiedBy>
  <dcterms:modified xsi:type="dcterms:W3CDTF">2008-10-13T09:12:36Z</dcterms:modified>
  <cp:revision>2</cp:revision>
  <dc:subject/>
  <dc:title>第34章  Microware串行总线EEPROM的应用</dc:title>
</cp:coreProperties>
</file>